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P  TEST  REVIEW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ART  TW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us Wars through Scientific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End  of  Charles’  Reig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5:  The Peace of Augsburg established some measure of religious freedom in the HRE (cuius regio, eius relig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6:  Charles retired to a mon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6:  Ferdinand I (his brother) got the HRE and Philip II (his son) got Spain, Netherlands, Naples, Milan, and the New World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in  Under  Philip II       (1556 - 159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inherited a nation blessed with great wealth in the form of gold and silver from the New World.  He squandered much of i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huge amounts of resources by fighting religious wars to try to halt the spread of the Reform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 luxury items from other nations to keep the Spanish nobilit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  Revol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leadership of William of  Orange (William the Silent), the Calvinist Dutch provinces united with the Catholic Dutch provinces to assert their independence from Spanish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ist provinces resented the Inquisition and all of the provinces resented the payment of taxes to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, a intense and determined man, sent the Duke of Alva to stop the revol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ctions included the council of blood and the sacking of Antwe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sacking of Antwerp, the Catholic provinces left the Dutch alliance and joined with the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provinces eventually became Belgium, while the Calvinist ones became the Nether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panish  Armada  (158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rivalry existed between Spain and England over control of the seas and control of new world w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between the two nations had not been very good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decided to attack England in an attempt to restore Catholicism to the nation in 15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asons  for  the Attack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had been married to Mary I (Eng).  After her death, Philip made some overtures to Elizabeth I and she refused to marr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wanted to restore Catholicism to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was angry that England had aided the Dutch in their fight against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Reason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resented English power in the new world and resented the attacks of the English “sea dogs” on Spanish galle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was involved in several plots against Elizabeth and finally in 1587, Mary Queen of Scots was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efeat  of  Spai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English  decisively  defeated  the  Spanish  Armada in 1588, thus preventing any Spanish acquisition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This defeat forever weakened Spain and led to its decline in the next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utch  Republic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d de facto independence from Spain by the late 1500’s.  This was made official in 16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en Age of the Dutch Republic:  early 1600’s due to political stability, economic prosperity, and cultural achie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Thirty  Years’  War   (1618 - 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ver weakened the HRE and paved the way for French continental suprem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1/3 of the population died and approx. 1/2 of the wealth of the German states was de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cimation set the stage for the long-term fragmentation of central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Invasions  of  Italy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alian city-states were attractive to invaders for several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ealthy territories which were a tempting target for stronge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quite small and were easy prey for larger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Bohemian Phase         (1618 - 162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, Frederick V of Bohemia demanded more autonomy for Bohemia from Ferdinand II (H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estration of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n drove the Imperial forces from Boh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estant forces were decisively defeated at the Battle of White Mountain and Frederick was de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Danish  Phase            (1625 - 162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sh King Christian IV stepped up to lead the Protestants who were nearly wiped out after phase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estant forces experienced more losses at the hands of Tilly and Wallens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ict of Restitution forced protestants to restore to the Catholic church all lands that had been taken from it since 1552.  This was a major def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wedish  Phase         (1630 - 163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 King Gustavus Adolphus and his army landed in Germany, starting phase III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Richelieu of Catholic France supported Gustavus and the Protestant forces in an attempt to control the power of the Hapsbur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wedish  Phase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early protestant victories, but Gustavus was killed in the battle of Luetzen in 16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had Wallenstein assassinated in 163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is phase of the war was a costly one for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wedish-French  Phase (1635 - 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n was attacked by Denmark in 1635, because Denmark hoped to break the power of the Swedish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sent troops to help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. France + Prot. Sweden vs. Cath. HRE + Prot. Denmark + Cath.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5:  Denmark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8: Germans called for a t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Treaty  of  Westphalia  (164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ed the Peace of Augsburg (cuius regio, eius religi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recognized Calvinism as a legal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ed the Edict of Restitution (whoever owned the land in 1624 got it 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the independence of Switzerland and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estphalia, 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princes given more sovereignty (they now had the right to raise armies and conclude foreign allia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greed to settle their religious disputes through negotiation, rather than edict or majority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eaty permanently weakened and fragmented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Final  Phase  (1648 - 165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German states were no longer involved as combatants in the war, Spain and France continued to war over their differences, fighting on German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nations looted and pillaged the German lands, and the devastated Germans were helpless in stopp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hase ended with the Treaty of the Pyra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FRENCH  CIVIL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France had only a small minority of Huguenots (approx. 9% in 1560), they had far more power than their numbers, because most protestants were upper middle class persons or members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Huguenots became Calvinist as an excuse to take a stand against the power of the Valois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ancis I and Henry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se kings were concerned about the growing Protestant minority and actively persecuted the Calvi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Henry II died while his sons were quite young, leaving Catherine de Medici as the queen mother.  Catherine had a difficult time dealing with the various political and religious factions in France and her religious policies were disastrous for the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Invasions by Charles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Naples and invaded Italy in 14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early successes, but was eventually defeated by the “Holy League” (Venice, Papal States, HRE, Spain, and Mi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tical  and  Religious  Problems  in  Fr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olitical factions were competing to control  France by 156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rbons (Protest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ses (Cathol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ellions (Protest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 broke out in 1562.  Catherine would switch sides, for a time supporting the Protestants, then the Catholic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intolerance culminated in the St. Bartholomew’s Day massacre in 1572 when Coligny (Prot. advisor) and several thousand Parisian Protestants were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gain ignited more warfare and led France into the “War of the Three Henry’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War  of  the  Three  Henry’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war, England helped the Protestant forces, and Spain helped the Cathol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Henry III (Cath.) and Henry of Navarre (Prot.) vs. Henry Guise (Cat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III was killed, and Henry of Navarre won a series of military victories which established him as King Henry IV and created a new ruling dynasty in France--the Bourb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King  Henry IV (1589 - 1610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took over, France was in a state of religious and political disorder, and the central government was severely weak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rebuilt a devastated France with the help of his advisor, the Duke of S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3: Henry became Catholic (“Paris is worth a mas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hievements  of  Henry IV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8:  Edict of Nantes:  granted religious toleration to Protestants (1st legal recognition of Calvinism in any n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ism was still the national religion (The religion of most French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ould worship freely in Protestant cities and could again own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Achievemen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ed the power of the monarch by weakening the power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d the bankrupt government to solv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n extensive program for economic improvements--repairing and constructing roads, bridges and harbors, reclaiming marsh lands, and fostering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UDOR   ENGLAND           (1485 - 160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: (1485 - 15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property taxation on the n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the Court of the Star Cha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d the nobles from maintaining private ar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ed the economic wealt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Henry VIII  (1509 - 1547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the 6 acts which broke the ties with the Pope but retained Catholic religious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hurch lands to court favo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 property t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expl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ed relativ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dward VI (1547 - 155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king at ag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Protestant beliefs for the Anglican Church and repealed the 6 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Cranmer (Archbishop of Canterbury) introduced 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ook of Common Pr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I  (1553 - 1558)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“Bloody  Mary”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daughter of Henry VIII and Catherine of A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Catholic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to Philip II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e became queen, she appointed Catholic Cardinal Pole as the Archbishop of Canterb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Invasions by Louis XII, et. al.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Milan in 1498 and invaded it one yea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: agreed to split Naples with Spanish King Ferdin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8: the League of Cambray [Ferdinand, Pope Julius II, Maximilian I (HRE)] took over rich Venetian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I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attempted to force England back into the Catholic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forced Parliament to revoke the Reformation laws and Protestant leaders and nobles were exiled and executed as her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lizabeth I (1558 - 160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ghter of Henry VIII and Anne Boleyn who was raised 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itique, she got Parliament to pass the 39 Articles which solved religious conflicts by allowing the Anglican church to retain Protestant teachings but use Catholic rit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opposed by radical Catholics and by the Purit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ary Stuart, Queen of Sco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hopes centered on Mary Stu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Calvinist revolt in Scotland, Mary fled to England where she was arrested by Elizab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was involved in several plots against Elizabeth and was finally executed in 15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hievements  of  Elizabeth 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8:  English defeat of the 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colonial enterprises and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a measure of religious peace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3:  Died with no h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had the largest oversea’s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us:  1492:  Sailed to find a water route to India but landed in Haiti and the Dominican Republic.  Sailed to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re voyages brought Spanish colonization to the Caribbean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Tordesillas:  1494:  Portugal and Spain agreed to give Spain all of the New World except Braz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ce de  Leon:  1512:  Landed in Florida looking for gold and the fountain of youth--found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nado:  explored SW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boa:  discovered the Pacific Ocean by crossing the Isthmus of Pa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:  Conquered the Aztecs in Mexico (captured Montez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PANISH  EXP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:  conquered the Incas of P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ellan: 1519:  Tried to circumnavigate the globe.  He was killed in the Philippines, but one of his ships made it to India and back to Spain.  3 year jou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holomew de Las Cases:  led missionaries to the New World and protested slavery and the poor treatment of the In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NGLIS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Cabot:  1497 &amp; 1498:  2 trips to find the NW passage.  Explored Newfound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ke:  1577:  circumnavigated the globe and raided Spanish gall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leigh:  Attempted to colonize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:  explored Australia and New Zealand--claimed it for the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claimed most of the N. Am. E.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razano:  Discovered the Hudson river &amp; with Cartier, claimed Canada for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plain:  explored the St. Lawrenc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alle:  explored the Mississippi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quette &amp; Joliet:  explored the great lakes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moved into Canada, W. Indies, and Louis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DUTCH &amp; SWEDISH EXPLORA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dson: 1609: Dutch: explored New York, Delaware, NY Bay, &amp; Hudson River Valley.  Colo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man:  discovered Australia &amp; New Zealand. Worked for Dutch E. India Co. in the mid-16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explorers took over many Portuguese colonies in the far east in the 16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38-1655:  Sweden claimed the lower Delaware Ba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Louis XII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erdinand got the part of Venice that he wanted, he withdrew from the League of Cambray (and kept his part of Ita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got scared of the growing power of France and renewed the Holy League (this time adding Henry VII of England) to control Louis X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POLITIC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XIII (1610 - 1643):  Became king at 9 with the help of the Queen mother, Marie de Med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appointed his advisor, Cardinal Richelieu, when he reached man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lieu effectively ruled France for about 20 years and attempted to return power taken by the nobles back to the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tions  of  Louis XI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anded the standing armies of the no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ed the fortified castles of the n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royal spy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hed conspiracies with wholesale exec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Actions  of  Louis XI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control of the provinces to provincial officials called inten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hed the political power of the Huguenots, but still allowed a small bit of religious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the 30 years War on the Protestant side to weaken the Hapsbu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Louis XIV (1643 - 171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king at age 5.  Helped by Queen mother, Anne of Austria, and chief advisor, Cardinal Maz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des:  2 successive revolts of the nobility:  crushed by Maz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9:  Treaty of the Pyranees ended French involvement in the 30 years War and gave Maria Therese of Spain to Louis as his w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cies  of  the  “Sun King”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ne Right Ruler (Bishop Bosse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up Versailles and was a great patron of the arts (Golden Age of Fran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tendents to strengthen royal power and control the power of the no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erritorial expansion led Louis into 4 costly w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Wars  of  Louis XIV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the 4 wars fought during Louis’ reign, France lost many talented generals and found its economic situation to be un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Devolution (1667-1668) Louis claimed the Spanish Netherlands as his wife’s unpaid dow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ed a small part of it as a result of the treaty of Aix-la-Chap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Dutch (1672-78) Louis went back to get more Dutch territory and to claim Dutch commercial inte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against the Dutch, HRE, Spain, and P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Nimwigen:  France received another small piece of the Sp. Netherlands, but lost many valuable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More  War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the League of Augsburg:(1680-97) Louis invaded Strasbourg and other Ger. border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by Spain, Dutch, Sweden, HRE, and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emate:  Peace of Ryswick:  Louis retreated from most territories in return fo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ar of Spanish Succession (1702 - 1713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king designated Louis’ grandson Philip as the Spanish heir and Leopold Hapsburg thought his son had a stronger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broke out and Spain and France fought England, HRE, and the D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loody war ended in a virtual stale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reaty of Utrech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eaty ended the War of Spanish Su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Louis’ grandson Philip to become the King of Spain (Philip V), but forbade any combining of French and Spanish hol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received control of Gibralter and of the As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’s holdings in Italy and the Neth. went to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Action  by  Francis 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further Italian expansion but checked by Charles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ed at the Battle of Pavia (1525) by Charles V (captured and later relea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protested against both French and HRE actions, and Charles became annoyed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French  Mercantilism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 minister, Colbert, was the architect of French Mercantilism. His action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d trade and commerce by trying to rid France of internal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maintain a favorable balance of trade to offset the huge milit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reat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production standards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based on gold &amp;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ccessfully tried to balance the 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ligious  Dispute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’ absolutism extended to religious aff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ression of the Jansenists &amp; the burning of Port Royal. (they favored strict morality and less papal influen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cation of the Edict of Nantes: thousands of Huguenots were forced to either flee France or become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ican Liberties: Louis would pay papal dues, if he could appoint French bi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TUART  ENGLAN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I:  (1603-25): ruled by divin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ed the resentment of Parliament due to his absol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ated the Puritan and Catholic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a foreign policy friendly to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dismissed Parliament when it refused to grant his financial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d forced loans and antiquated taxes to force payment for his political, social, and economic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harles I (1625 - 49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 between parliament and Charles increased  and he was forced to accept the Petition of Right in 16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rtial law in peac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quartering of troops in 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xes without parliamentary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mprisonment without a jury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ar with the Scots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ruled without parliament until 1640 when he was forced to ask Parl. for money to fight a war with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had tried to force Anglican services o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ntly Puritan English Parliament demanded an end to the religious &amp; political policies of Charles &amp; was dismissed after 3 weeks (Short Parli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Results of the War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enough money to equip his troops properly, Charles’ army soon lost the war to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was forced to pay large indemnities to Scotland and had to call Parliament to again ask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long parliament” gave him money in return for more power, but a divided parliament soon looked weak to Charles, and civil war brok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Civil War (1649-1660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was somewhat split on how much the king’s authority should be curb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used this division to attempt to reassert his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attempted to arrest 5 members of Parliament, but he failed and civil war resu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Civil  War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liers were wealthy trading and land-owning classes who supported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heads were generally Puritans and members of the middle class who opposed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very small percent of the English population actually took part in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hase  one  (1642-1646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aid of the Scots and an efficient military organization (the new model army) commanded by Oliver Cromwell, Parliament’s forces were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lit soon occurred in Parliament between those who wanted the restoration of a very limited monarchy and those who wanted a Puritan the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ivil War:  Phase Tw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ivil war broke out from 1648-1649 over what type of government should be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’s “Independent” party won due to his control of the ar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 gained control of Parliament and expelled the less radical me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members were known as the “Rump Parliament and were controlled by the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Sacking  of  Rom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yed with the Pope, Charles allowed his troops to sack Rome in 15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30: Charles made peace with the Pope and was given the title “King of Ita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40:  France again invaded Milan and Naples, but was defeated by the H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England  Under  Cromwell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did the follow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d to execute Charles I in 16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d England a “Commonweal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developed between Cromwell &amp; Parliament and he disbanded it in 16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3: Cromwell declares England to be a Protectorate with him as “Lord Protecto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uled with a council of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romwell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parliament was elected, but its power was greatly reduced--England was essentially a military dictat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mwell ruled until he died in 1658.  He di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English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lled Ireland and Scotland to recognize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ngland’s power ab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overthrew his son in 16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harles II (1660-1685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invited Charles to rule England in the restoration of 1660.  He agreed to abide by Parliamentary controls on taxes and to call Parliament into session regul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Cavalier Parliament” passed a series of laws which suppressed the religious freedom of Catholics and Purit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olicies  of  Charles II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Dover: 1670: Secret treaty in which Charles received a subsidy from Louis XIV in return for vague religious prom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of Indulgence: 1672: exempted religious dissenters from punishment under Parliament’s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ons angered the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Parliamen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73: Test Act: Passed by parliament, it excluded all Catholics from public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was divided into two factions, the whigs &amp; the tories, but both feared the extension of roy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gs wanted a new Constitutional monarchy under a Protestant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ies supported the king but feared the restoration of Catholic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James II (1685-1688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’ brother James took over when Charles died in 168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established a standing army and special courts to try those suspected of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’ wife gave birth to a son in 1688 and  he was baptized Catholic.  This created a Catholic heir to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Glorious  Revolu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 &amp; Tory leaders invited James’ daughter Mary and her husband William of Orange to rule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ir forces landed in England, James fled to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&amp; Mary accepted the Bill of Rights in 1689 which limited the power of the monarchy &amp; created a “squirearc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illiam &amp; Mary (1688-1714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689 Bill of Right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ing armies or taxes without the consent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sessions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Speech in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could not suspend th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 by jury &amp; “no excessive bai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9: Toleration Act: freedom of worship for all Protestant s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Scientific Revolutio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: improved the telescope, made astronomical observations, &amp; experimented with falling bodies. (Under house arr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: universal laws of motion, optics, calculus (Principia Mathemat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artes: analytic geometry, induction, rationalist “I think, therefore, I a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vey: circulation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Science, continued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 mathematical demonstration of elliptical orbits (built on Copernican the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on: Inductive method, required empirical proof of hypotheses (Novum Orga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uwenhok: invented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bnitz: developed calculus independent of Newton; optimistic philoso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ork Universe model became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The  Empire of  Charles V  (1519 - 1556)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was the grandson of Max. I and was the next living male he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’ father had married a daughter of Ferdinand and Isabella befor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inherited a huge empire from his father and grandparents which included the HRE, Spain, the Low Countries, and the Italian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Weaknesses  of  Charles’  Empir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ly, his empire was so spread out it was difficult to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German princes were striving for some measure of autonomy and were using religion as a pretext for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ormation had already begun when he became emperor, and this created religious division and w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4:16:15Z</dcterms:created>
  <dc:creator>Thomas R. Gerard</dc:creator>
  <dc:description/>
  <dc:language>en-US</dc:language>
  <cp:lastModifiedBy>Susan Gregory</cp:lastModifiedBy>
  <dcterms:modified xsi:type="dcterms:W3CDTF">2006-04-10T04:58:50Z</dcterms:modified>
  <cp:revision>76</cp:revision>
  <dc:subject/>
  <dc:title>AP  TEST  REVIEW PART  TWO</dc:title>
</cp:coreProperties>
</file>